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97EB-A695-4405-A197-36510180F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9106-A4E8-46B6-BE72-9258449B5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6FBD-F89E-434E-957B-2C32EFED8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ing teachers with a user-friendly online format to reinforce strategies, introduce new topics and concepts, review important class points, review for tests, and provide enrichme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rade history class held online discussions using a blog with the author of the novel they read, community members, family members, other students – made the learning process a more dynamic experience – have to set clear guidelines and expectations though. Teachers and students must be careful about what they post on the b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E36C-3E30-4D91-854B-A9570686E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745-9E17-47C4-9F09-6346C30D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385-CF76-4EE6-A26D-94CC1C26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81D-D957-4BD6-BAAE-2C0A3493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02F-E93A-465A-BEB8-611CEDF4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7920-4D72-40E0-A714-590F637D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69D9-06E8-4345-9B49-7FD50FF4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3F70-6F21-465D-B63F-ECA780AC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F267-152A-4475-97A4-3CB4CF63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F3C2-B1D8-453E-B9F1-31066740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6394-C503-4DDC-AF8F-991D9909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8023-4D2A-465E-8DA2-8DDB338B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A8C-75CC-447D-92BF-9C99DA51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21F7-78DC-40AD-BAB2-7AEDDFEE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77C-05FB-4095-A574-E1449D9C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F556-70BA-482E-8CCA-E89BE35D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F843-C871-4BBA-91AD-961F6D35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38C1-C507-4716-992C-EAEE6E72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7F0-CC63-41A4-873F-074D0184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D74-C760-4704-B29C-0AF7569F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C208-096D-4A58-85D8-49C6E530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AB8-27EB-4ABB-93E9-370D303D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2B3-3E16-49BD-BC68-7D5A1CCC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8F6-3B5A-4C93-B16F-96B5C4B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8CEA-C620-490B-8AD6-36FB8C7D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prstGeom prst="pie">
              <a:avLst/>
            </a:pr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prstGeom prst="pie">
              <a:avLst/>
            </a:pr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prstGeom prst="pie">
              <a:avLst/>
            </a:pr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50C3-DDC0-424B-B060-C6DE0FD4E3AB}" type="slidenum">
              <a:rPr b="0" lang="en-US" sz="1400" spc="-1" strike="noStrike">
                <a:solidFill>
                  <a:srgbClr val="5b87f2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prstGeom prst="pie">
              <a:avLst/>
            </a:pr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prstGeom prst="pie">
              <a:avLst/>
            </a:pr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prstGeom prst="pie">
              <a:avLst/>
            </a:pr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B3D2-63A7-42EE-ACEA-4C49DCC5F53B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logger-book-club.blogspot.com/" TargetMode="External"/><Relationship Id="rId3" Type="http://schemas.openxmlformats.org/officeDocument/2006/relationships/hyperlink" Target="http://www.blogger-book-club.blogspot.com/" TargetMode="External"/><Relationship Id="rId4" Type="http://schemas.openxmlformats.org/officeDocument/2006/relationships/hyperlink" Target="http://www.blogger-book-club.blogspot.com/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3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4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5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6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7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8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9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0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1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2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3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4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5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6" Type="http://schemas.openxmlformats.org/officeDocument/2006/relationships/hyperlink" Target="http://navigator-kutztown.passhe.edu/login?url=http://search.ebscohost.com/login.aspx?direct=true&amp;db=a9h&amp;AN=28031222&amp;site=ehost-live&amp;scope=site" TargetMode="External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avigator-kutztown.passhe.edu/login?url=http://search.ebscohost.com/login.aspx?direct=true&amp;db=a9h&amp;AN=24445663&amp;site=ehost-live&amp;scope=site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avigator-kutztown.passhe.edu/login?url=http://search.ebscohost.com/login.aspx?direct=true&amp;db=a9h&amp;AN=25102102&amp;site=ehost-live&amp;scope=site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ara Gerhart, Jillian Zarra, and Karen Schmit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blogs effectively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 opportunity for students to become familiar with computer skills such as typing and copying/p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tudents realize their efforts are published, they are more motivated to produce better writing – especially good for those who aren’t so easily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blogs effectively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mentoring is available - older students can help younger students develop more confidence in their writing ski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time to react to ideas and reflect on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a’s blog:</a:t>
            </a: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3"/>
              </a:rPr>
              <a:t>http://www.blogger-book-club.blogspot.</a:t>
            </a: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4"/>
              </a:rPr>
              <a:t>com/</a:t>
            </a:r>
            <a:r>
              <a:rPr b="0" lang="en-US" sz="2800" spc="-1" strike="noStrike">
                <a:solidFill>
                  <a:srgbClr val="000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gages students, attractive layout, not being used thoug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book discussion blog: </a:t>
            </a:r>
            <a:r>
              <a:rPr b="0" lang="en-US" sz="3200" spc="-1" strike="noStrike" u="sng">
                <a:solidFill>
                  <a:srgbClr val="0000f0"/>
                </a:solidFill>
                <a:uFillTx/>
                <a:latin typeface="Arial"/>
              </a:rPr>
              <a:t>http://nnhsbooktalks.blogspot.com/</a:t>
            </a:r>
            <a:r>
              <a:rPr b="0" lang="en-US" sz="2800" spc="-1" strike="noStrike">
                <a:solidFill>
                  <a:srgbClr val="000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choices for discussion, would like to see more frequent postings</a:t>
            </a:r>
            <a:r>
              <a:rPr b="0" lang="en-US" sz="2800" spc="-1" strike="noStrike">
                <a:solidFill>
                  <a:srgbClr val="0000f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hlehem Area Public Library blog: http://www.bapl.org/wordpress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good way to update the public on events, new materia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: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3"/>
              </a:rPr>
              <a:t>//navigator-kutztown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5"/>
              </a:rPr>
              <a:t>passhe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7"/>
              </a:rPr>
              <a:t>edu/login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8"/>
              </a:rPr>
              <a:t>?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9"/>
              </a:rPr>
              <a:t>url=http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0"/>
              </a:rPr>
              <a:t>://search.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1"/>
              </a:rPr>
              <a:t>ebscohost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2"/>
              </a:rPr>
              <a:t>.com/login.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3"/>
              </a:rPr>
              <a:t>aspx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4"/>
              </a:rPr>
              <a:t>?direct=true&amp;db=a9h&amp;AN=28031222&amp;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5"/>
              </a:rPr>
              <a:t>site=ehost-live</a:t>
            </a: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16"/>
              </a:rPr>
              <a:t>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avigator-kutztown.passhe.edu/login?url=http://search.ebscohost.com/login.aspx?direct=true&amp;db=a9h&amp;AN=24052706&amp;site=ehost-live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://navigator-kutztown.passhe.edu/login?url=http://search.ebscohost.com/login.aspx?direct=true&amp;db=a9h&amp;AN=24445663&amp;site=ehost-live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avigator-kutztown.passhe.edu/login?url=http://search.ebscohost.com/login.aspx?direct=true&amp;db=a9h&amp;AN=24121622&amp;site=ehost-live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://navigator-kutztown.passhe.edu/login?url=http://search.ebscohost.com/login.aspx?direct=true&amp;db=a9h&amp;AN=25102102&amp;site=ehost-live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avigator-kutztown.passhe.edu/login?url=http://search.ebscohost.com/login.aspx?direct=true&amp;db=a9h&amp;AN=26915488&amp;site=ehost-live&amp;scope=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rce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lo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10 Mar 2008  &lt;http://www.blogger.com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Stuff Wor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10 Mar 2008  &lt;http://www.computer.howstuffworks.com/blog.htm&gt;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raft, "Blogs in Plain English." November 2007. 10 Mar 2008 &lt;http://www.youtube.com/watch?v= N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I1pWXjXI&gt;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 is an abbreviated term for “weblog”, which describes web sites that maintain an ongoing chronicle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tly updated, personal website featuring diary-type commentary and links to articles on other Web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from personal to political, focus on one narrow subject or a whole range of subje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blog?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ed in reverse chronological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recent entries are displayed first and viewed first by website view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ce to store all your thoughts pertaining to a specific subject ma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 or di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lude photographs, videos, and audio cl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makes a blo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in content area with articles listed chronologically, newest on 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s are organized into categ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chive of older 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y for people to leave comments about the 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st of links to other related sites, sometimes called a "blogroll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g Gloss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ves – past po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ger – blog aut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ging – the activity of updating a b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roll – list of favorite b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– subject 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– reader’s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– your blog can be seen by an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can I start a free blo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ger - www.blogg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press – www.wordpres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 Journal – www.livejourna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g – www.blo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4120" y="5029200"/>
            <a:ext cx="3295440" cy="95256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grating blogs into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teachers to extend clas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lessons, homework, and other class information available to students,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and librarians can answer questions and provid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differentiated instruction for students with special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grating blogs into education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OVE technolog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uses for blogs to engage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own blogs can affect school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ause issues related to copyright, plagiarism, and priva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743200" cy="1806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86200" y="62485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Copyright Microsoft Cli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ing blogs effective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, organize and protect student work as digital portfoli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to organize student's own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find them convenient and accessible from home or library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20:36:31Z</dcterms:created>
  <dc:creator/>
  <dc:description/>
  <dc:language>en-US</dc:language>
  <cp:lastModifiedBy>KU KU</cp:lastModifiedBy>
  <cp:lastPrinted>2008-03-25T19:21:11Z</cp:lastPrinted>
  <dcterms:modified xsi:type="dcterms:W3CDTF">2008-03-26T22:04:13Z</dcterms:modified>
  <cp:revision>24</cp:revision>
  <dc:subject/>
  <dc:title>Blogs</dc:title>
</cp:coreProperties>
</file>